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48040" y="942336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A32C-75AC-471F-82E4-B236018778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2811BE-709F-458F-A9DF-2C4252593A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560" y="4711320"/>
            <a:ext cx="4978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4CE-CE82-4D0E-85FA-4FCD90DE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1B3-DE34-4136-A98C-5CCD8C97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B9E-CA90-4563-B46B-4E354C6C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C79-9FCB-4517-A97F-16F621D5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8B1A-82D4-4AB0-AEF4-C8C231D9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AD2F-B78B-4321-8FC8-4A93E595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430B-7FCF-49E1-887F-7D646B93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EB0C-976D-4353-8968-01A31284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DCD2-35C7-4A36-9514-7336A18E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E040-575D-4F37-B121-F2EB1439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9A1F-D241-447A-B620-FBF31966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0F5-FD7E-42BC-962F-D4ED04F1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AB80-33E2-4EEE-921D-0B21292E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8071-EEFA-41C0-A0C5-B32F150F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9584-A9AF-4668-97DC-92A03D12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14CF-4352-44D5-BC2B-ED8802C8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A47D-8AA8-4F82-A808-015361E4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DA3-5016-4DBC-87DB-85C6DD7A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650-00ED-463E-847B-A420D7A8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8A5-06EF-47E5-BD70-6D0A6238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1294-9E42-4F5C-8851-4769D5C8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EEB-30B6-4CCB-9617-B2D5F7E5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F9D2-41E4-4B72-B751-55223748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9D9-1E5D-4EC8-8A2A-D1D9400B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5F98-838B-41DD-8241-7B88CBD4FB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4e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FBA2-51C5-4C17-BB03-5DFEEFFDE1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258920" y="1844640"/>
            <a:ext cx="7272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Федеральный зако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т 8 мая 2010 г. № 83-Ф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1" descr="MF_emblema [Converted]"/>
          <p:cNvPicPr/>
          <p:nvPr/>
        </p:nvPicPr>
        <p:blipFill>
          <a:blip r:embed="rId1"/>
          <a:stretch/>
        </p:blipFill>
        <p:spPr>
          <a:xfrm>
            <a:off x="785880" y="857160"/>
            <a:ext cx="879480" cy="10828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1332000" y="4292640"/>
            <a:ext cx="7272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«О внесении изменений в отдельные законодательные акты Российской Федерации в связи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овершенствованием правового положения государственных (муниципальных) учреждений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Позиции, которые не меняются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у действующих бюджетных учреждений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при переходе к новому статусу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3780000" y="3213000"/>
            <a:ext cx="2447640" cy="1079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и переходе к нов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атусу остае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изменны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348000" y="1628640"/>
            <a:ext cx="3095640" cy="136872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Недвижимым имуществ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реждение не може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поряжаться без соглас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бственни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6443640" y="1700280"/>
            <a:ext cx="2700360" cy="20160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Лицензи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идетельства о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ккредитации, и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решитель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кумент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данные учреждению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должаю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йство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250920" y="4508640"/>
            <a:ext cx="2952720" cy="208908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3. Система управления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не требуется переназначение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руководителя и иных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работников учрежден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(в т.ч. военнослужащих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 приравненных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к ним лиц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611280" y="1628640"/>
            <a:ext cx="2665440" cy="136872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Счета учре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-прежне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крываю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Казначейств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финансовом органе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611280" y="3213000"/>
            <a:ext cx="2592360" cy="115092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На все закупк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пространяе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йств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кона № 94-ФЗ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3276720" y="5589720"/>
            <a:ext cx="5040360" cy="1268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 целом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ационные мероприятия сведе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 минимуму – необходимо будет тольк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нести изменения в устав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роме того, с 1 января 2011 года до 1 июля 2012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станавливается переходный пери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9"/>
          <p:cNvSpPr/>
          <p:nvPr/>
        </p:nvSpPr>
        <p:spPr>
          <a:xfrm flipV="1">
            <a:off x="5003640" y="299700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30"/>
          <p:cNvSpPr/>
          <p:nvPr/>
        </p:nvSpPr>
        <p:spPr>
          <a:xfrm flipH="1">
            <a:off x="3203280" y="3716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35"/>
          <p:cNvSpPr/>
          <p:nvPr/>
        </p:nvSpPr>
        <p:spPr>
          <a:xfrm flipH="1" flipV="1">
            <a:off x="3132000" y="2708280"/>
            <a:ext cx="64800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36"/>
          <p:cNvSpPr/>
          <p:nvPr/>
        </p:nvSpPr>
        <p:spPr>
          <a:xfrm>
            <a:off x="5148360" y="4292640"/>
            <a:ext cx="431640" cy="1297080"/>
          </a:xfrm>
          <a:prstGeom prst="downArrow">
            <a:avLst>
              <a:gd name="adj1" fmla="val 50000"/>
              <a:gd name="adj2" fmla="val 7512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37"/>
          <p:cNvSpPr/>
          <p:nvPr/>
        </p:nvSpPr>
        <p:spPr>
          <a:xfrm>
            <a:off x="4284720" y="4292640"/>
            <a:ext cx="431640" cy="1297080"/>
          </a:xfrm>
          <a:prstGeom prst="downArrow">
            <a:avLst>
              <a:gd name="adj1" fmla="val 50000"/>
              <a:gd name="adj2" fmla="val 7512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6443640" y="4076640"/>
            <a:ext cx="2700360" cy="129708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Имуществ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ре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храняется у ни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полном объеме без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закреп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5"/>
          <p:cNvSpPr/>
          <p:nvPr/>
        </p:nvSpPr>
        <p:spPr>
          <a:xfrm flipH="1">
            <a:off x="2987280" y="4292640"/>
            <a:ext cx="792360" cy="64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6"/>
          <p:cNvSpPr/>
          <p:nvPr/>
        </p:nvSpPr>
        <p:spPr>
          <a:xfrm flipV="1">
            <a:off x="6227640" y="3068280"/>
            <a:ext cx="28908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6227640" y="4292640"/>
            <a:ext cx="28908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Основные изменения в статусе бюджетных учреждени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3635280" y="3284640"/>
            <a:ext cx="2305080" cy="107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сширение объе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ав и повыш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амосто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юджетных учре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11280" y="4292640"/>
            <a:ext cx="3025800" cy="12240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Отмена субсидиарн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ветственности государств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обязательствам бюджетн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6156360" y="3789360"/>
            <a:ext cx="2843280" cy="1368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Расширение прав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поряжению движимы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уществ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за исключе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бо ценного движим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мущества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3419640" y="1125360"/>
            <a:ext cx="3384360" cy="18720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Полученные доход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 являются доходам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и остаю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распоряжении учреждения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жны направляться 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стижение целей ради котор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реждение созда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324000" y="1844640"/>
            <a:ext cx="3240000" cy="165564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Изменение механизм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инансового обеспечения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ход с бюджетн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меты на субсиди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сзадани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43"/>
          <p:cNvSpPr/>
          <p:nvPr/>
        </p:nvSpPr>
        <p:spPr>
          <a:xfrm flipH="1" flipV="1">
            <a:off x="3348000" y="3068640"/>
            <a:ext cx="28728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44"/>
          <p:cNvSpPr/>
          <p:nvPr/>
        </p:nvSpPr>
        <p:spPr>
          <a:xfrm flipH="1">
            <a:off x="3492000" y="4365720"/>
            <a:ext cx="142920" cy="14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516720" y="2276640"/>
            <a:ext cx="2413080" cy="122364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Расшир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мостоятельно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использовани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редств, получен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 бюдж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5"/>
          <p:cNvSpPr/>
          <p:nvPr/>
        </p:nvSpPr>
        <p:spPr>
          <a:xfrm flipV="1">
            <a:off x="5003640" y="29973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3635280" y="5373720"/>
            <a:ext cx="4032360" cy="86508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Заключение гражданско-правов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говоров, приобретение прав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язанностей от своего име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7"/>
          <p:cNvSpPr/>
          <p:nvPr/>
        </p:nvSpPr>
        <p:spPr>
          <a:xfrm>
            <a:off x="5003640" y="4365720"/>
            <a:ext cx="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940360" y="2997360"/>
            <a:ext cx="57636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4365720"/>
            <a:ext cx="216000" cy="14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280" y="286920"/>
            <a:ext cx="7931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менение механизма финансового обеспечения бюджетных учреждений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Oval 13"/>
          <p:cNvSpPr/>
          <p:nvPr/>
        </p:nvSpPr>
        <p:spPr>
          <a:xfrm>
            <a:off x="8424720" y="656892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826920" y="1628640"/>
            <a:ext cx="460872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еход от сметного финансир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 предоставлению субсид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785880" y="3357720"/>
            <a:ext cx="4429080" cy="7920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йти 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стеме субсидий на госзад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бюджетных учреждений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ключающе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1763640" y="4371840"/>
            <a:ext cx="3600360" cy="790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бсидию на оказание услу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выполнение работ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ответствии с госзадани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ст. 78.1 БК РФ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1332000" y="4587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1476360" y="473076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1785960" y="5235480"/>
            <a:ext cx="3600360" cy="569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убсидии на иные цел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ст. 78.1 БК РФ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5364000" y="3435480"/>
            <a:ext cx="3780000" cy="122868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воначальные н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матив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затрат индивидуализированы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бсидия рассчитывается исходя из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ктически сложившихся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ждения (п.8 ст.31 83-ФЗ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5508720" y="4873680"/>
            <a:ext cx="3635280" cy="9126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тем будет происходить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и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остепенная унификаци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по групп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днопрофильных учре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 учетом различных фактор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7164360" y="46576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268360" y="2276640"/>
            <a:ext cx="1440000" cy="1008000"/>
          </a:xfrm>
          <a:prstGeom prst="downArrow">
            <a:avLst>
              <a:gd name="adj1" fmla="val 49944"/>
              <a:gd name="adj2" fmla="val 581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0"/>
          <p:cNvSpPr/>
          <p:nvPr/>
        </p:nvSpPr>
        <p:spPr>
          <a:xfrm>
            <a:off x="5214960" y="37861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1214280" y="4299120"/>
            <a:ext cx="79560" cy="792000"/>
          </a:xfrm>
          <a:custGeom>
            <a:avLst/>
            <a:gdLst>
              <a:gd name="textAreaLeft" fmla="*/ 23400 w 79560"/>
              <a:gd name="textAreaRight" fmla="*/ 79920 w 79560"/>
              <a:gd name="textAreaTop" fmla="*/ 69840 h 792000"/>
              <a:gd name="textAreaBottom" fmla="*/ 72216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06"/>
                  <a:pt x="0" y="3812"/>
                </a:cubicBezTo>
                <a:lnTo>
                  <a:pt x="0" y="17788"/>
                </a:lnTo>
                <a:cubicBezTo>
                  <a:pt x="0" y="1969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9"/>
          <p:cNvSpPr/>
          <p:nvPr/>
        </p:nvSpPr>
        <p:spPr>
          <a:xfrm>
            <a:off x="0" y="444348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Обязательна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субсид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-36360" y="566100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Могут  предо-ставлять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1187280" y="5229360"/>
            <a:ext cx="70200" cy="1295280"/>
          </a:xfrm>
          <a:custGeom>
            <a:avLst/>
            <a:gdLst>
              <a:gd name="textAreaLeft" fmla="*/ 20520 w 70200"/>
              <a:gd name="textAreaRight" fmla="*/ 70560 w 70200"/>
              <a:gd name="textAreaTop" fmla="*/ 114120 h 1295280"/>
              <a:gd name="textAreaBottom" fmla="*/ 118116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06"/>
                  <a:pt x="0" y="3812"/>
                </a:cubicBezTo>
                <a:lnTo>
                  <a:pt x="0" y="17788"/>
                </a:lnTo>
                <a:cubicBezTo>
                  <a:pt x="0" y="1969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76360" y="4156200"/>
            <a:ext cx="0" cy="215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1"/>
          <p:cNvSpPr/>
          <p:nvPr/>
        </p:nvSpPr>
        <p:spPr>
          <a:xfrm>
            <a:off x="1476360" y="630864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1476360" y="551664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1763640" y="5950080"/>
            <a:ext cx="36003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юджетные инвести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ст. 79 БК РФ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93116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прощение операций по лицевым счетам бюджетных учреждений, открытым в Казначействе (финансовом органе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6143760" y="2500200"/>
            <a:ext cx="1584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857160" y="1643040"/>
            <a:ext cx="7572600" cy="8571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перации со средствами бюджетных учреждений, полученными в вид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убсидий на лицевых счетах, открыт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органах Федерального казначейства, осуществляются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642960" y="2857680"/>
            <a:ext cx="4214880" cy="928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 субсидиям на оказание государствен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муниципальных) услуг (выполнение рабо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853920" y="557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2000160" y="2500200"/>
            <a:ext cx="1584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5143680" y="2857680"/>
            <a:ext cx="3786120" cy="928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 иным целевым субсиди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1187280" y="3860640"/>
            <a:ext cx="3741840" cy="792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ез предоставления в Казначейств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финансовый орган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окументов, подтверждающи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зникновение денежных обязательст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1214280" y="4786200"/>
            <a:ext cx="3714840" cy="8575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татки неиспользованных на начал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инансового года средств используют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 те же цели в следующем финансов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году (п. 17 ст. 30 83-ФЗ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782640" y="4359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785880" y="42861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785880" y="52149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0"/>
          <p:cNvSpPr/>
          <p:nvPr/>
        </p:nvSpPr>
        <p:spPr>
          <a:xfrm>
            <a:off x="5068800" y="5645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5857920" y="3860640"/>
            <a:ext cx="2857320" cy="936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 представлением в Казначей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финансовый орган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окументов, подтверждающи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зникнов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енежных обязательст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5857920" y="4929120"/>
            <a:ext cx="3106800" cy="1452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татки неиспользованных 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чало финансового года средст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пользуются на те же ц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 наличии потребности в н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соответствии с решением учредител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п. 18 ст. 30 83-ФЗ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4925880" y="4430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5429160" y="44290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5429160" y="55897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ая соединительная линия 55"/>
          <p:cNvSpPr/>
          <p:nvPr/>
        </p:nvSpPr>
        <p:spPr>
          <a:xfrm flipH="1">
            <a:off x="783720" y="3787920"/>
            <a:ext cx="1800" cy="14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ая соединительная линия 56"/>
          <p:cNvSpPr/>
          <p:nvPr/>
        </p:nvSpPr>
        <p:spPr>
          <a:xfrm flipH="1">
            <a:off x="5430600" y="3786120"/>
            <a:ext cx="4680" cy="180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93116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мена субсидиарной ответственности государства по обязательствам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юджетных учреждени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6408720" y="2349360"/>
            <a:ext cx="1584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13"/>
          <p:cNvSpPr/>
          <p:nvPr/>
        </p:nvSpPr>
        <p:spPr>
          <a:xfrm>
            <a:off x="8244000" y="6453360"/>
            <a:ext cx="718920" cy="28872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857160" y="1643040"/>
            <a:ext cx="7572600" cy="706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 1 января 2011 года государство не несет ответственности по обязательств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юджетных учре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5429160" y="2708280"/>
            <a:ext cx="3714840" cy="223344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сли правоотношение 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стием бюджетного учрежд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зникло до 1 января 2011 года, т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сударство продолжает не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убсидиарную ответственность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м обязательствам, вытекающи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 такого правоотнош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п. 9 ст. 31 83-ФЗ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550800" y="2706840"/>
            <a:ext cx="4429080" cy="245088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(БУ) отвечает по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воим обязательствам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своим имуществом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(за исключением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сего недвижимого имуществ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и особо ценного движимого имущества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закрепленного за БУ собственником ил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иобретенным БУ за счет средств, выделенных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ему собственником на эти цели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(ст. 120 ГК РФ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905040" y="520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1979640" y="2349360"/>
            <a:ext cx="1584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5"/>
          <p:cNvSpPr/>
          <p:nvPr/>
        </p:nvSpPr>
        <p:spPr>
          <a:xfrm>
            <a:off x="2195640" y="1628640"/>
            <a:ext cx="4968720" cy="72072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ущество, находящееся на праве оперативн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правления у бюджетного учреждения (БУ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1187280" y="2708280"/>
            <a:ext cx="374508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вижимое имуще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84360" y="3500280"/>
            <a:ext cx="2519280" cy="1297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крепленное собственнико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 БУ или приобретенное Б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 счет средств, выделен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бственником на приобрет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ого имуществ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755640" y="3502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5724360" y="2708280"/>
            <a:ext cx="331344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движимое имуще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7"/>
          <p:cNvSpPr/>
          <p:nvPr/>
        </p:nvSpPr>
        <p:spPr>
          <a:xfrm>
            <a:off x="5292720" y="3575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3"/>
          <p:cNvSpPr/>
          <p:nvPr/>
        </p:nvSpPr>
        <p:spPr>
          <a:xfrm flipH="1">
            <a:off x="3058920" y="2349360"/>
            <a:ext cx="43164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5796000" y="2349360"/>
            <a:ext cx="57636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611280" y="0"/>
            <a:ext cx="85327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Расширение объема прав по использованию и распоряжению движимым имуществом у бюджетных учрежд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3276720" y="3500280"/>
            <a:ext cx="2232000" cy="1297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обретенное Б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 счет средств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торыми  Б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споряжае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амостоятельн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8"/>
          <p:cNvSpPr/>
          <p:nvPr/>
        </p:nvSpPr>
        <p:spPr>
          <a:xfrm flipH="1">
            <a:off x="2411280" y="3213000"/>
            <a:ext cx="72072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9"/>
          <p:cNvSpPr/>
          <p:nvPr/>
        </p:nvSpPr>
        <p:spPr>
          <a:xfrm>
            <a:off x="3132000" y="3213000"/>
            <a:ext cx="79236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3348000" y="5734080"/>
            <a:ext cx="1943280" cy="7920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Распоряжает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амостоятельн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250920" y="5084640"/>
            <a:ext cx="1800000" cy="50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обо цен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вижимое имуще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2195640" y="5084640"/>
            <a:ext cx="1657080" cy="50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ое движим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муще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34"/>
          <p:cNvSpPr/>
          <p:nvPr/>
        </p:nvSpPr>
        <p:spPr>
          <a:xfrm flipH="1">
            <a:off x="1331640" y="4797360"/>
            <a:ext cx="6476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35"/>
          <p:cNvSpPr/>
          <p:nvPr/>
        </p:nvSpPr>
        <p:spPr>
          <a:xfrm>
            <a:off x="1979640" y="4797360"/>
            <a:ext cx="79200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250920" y="5877000"/>
            <a:ext cx="1942920" cy="7920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Распоряжает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олько с соглас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обствен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6084720" y="3645000"/>
            <a:ext cx="2664000" cy="1152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споряжается тольк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согласия собствен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вне зависимости от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точ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обретения недвижим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уществ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8"/>
          <p:cNvSpPr/>
          <p:nvPr/>
        </p:nvSpPr>
        <p:spPr>
          <a:xfrm>
            <a:off x="7308720" y="32130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9"/>
          <p:cNvSpPr/>
          <p:nvPr/>
        </p:nvSpPr>
        <p:spPr>
          <a:xfrm>
            <a:off x="5940360" y="5157720"/>
            <a:ext cx="2987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Самостоятельное распоряжение движимым имуществом становится возможным только с момента утверждения перечня особо ценного движимого  имущества.  (п.5 ст. 31) До этого момента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во всех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случаях требуется согласие учредителя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40"/>
          <p:cNvSpPr/>
          <p:nvPr/>
        </p:nvSpPr>
        <p:spPr>
          <a:xfrm>
            <a:off x="5292720" y="6093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7"/>
          <p:cNvSpPr/>
          <p:nvPr/>
        </p:nvSpPr>
        <p:spPr>
          <a:xfrm>
            <a:off x="5940360" y="5229360"/>
            <a:ext cx="71640" cy="1512720"/>
          </a:xfrm>
          <a:custGeom>
            <a:avLst/>
            <a:gdLst>
              <a:gd name="textAreaLeft" fmla="*/ 20880 w 71640"/>
              <a:gd name="textAreaRight" fmla="*/ 72000 w 71640"/>
              <a:gd name="textAreaTop" fmla="*/ 63000 h 1512720"/>
              <a:gd name="textAreaBottom" fmla="*/ 14497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42"/>
          <p:cNvSpPr/>
          <p:nvPr/>
        </p:nvSpPr>
        <p:spPr>
          <a:xfrm>
            <a:off x="4356000" y="4797360"/>
            <a:ext cx="0" cy="93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43"/>
          <p:cNvSpPr/>
          <p:nvPr/>
        </p:nvSpPr>
        <p:spPr>
          <a:xfrm>
            <a:off x="2771640" y="558972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44"/>
          <p:cNvSpPr/>
          <p:nvPr/>
        </p:nvSpPr>
        <p:spPr>
          <a:xfrm>
            <a:off x="2771640" y="609300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45"/>
          <p:cNvSpPr/>
          <p:nvPr/>
        </p:nvSpPr>
        <p:spPr>
          <a:xfrm>
            <a:off x="1258920" y="5589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46"/>
          <p:cNvSpPr/>
          <p:nvPr/>
        </p:nvSpPr>
        <p:spPr>
          <a:xfrm>
            <a:off x="5724360" y="501336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838980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2268360" y="6237360"/>
            <a:ext cx="1008360" cy="433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. 9.2 7-Ф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. 298 ГК Р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826920" y="270828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вод части бюджетных учреждений в казенные учреждения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Автоматический перевод в силу закона ряда федеральных бюджетных учреждений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в казенные учреждения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Oval 4"/>
          <p:cNvSpPr/>
          <p:nvPr/>
        </p:nvSpPr>
        <p:spPr>
          <a:xfrm>
            <a:off x="8317080" y="6453360"/>
            <a:ext cx="718920" cy="28872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714240" y="1628640"/>
            <a:ext cx="8178840" cy="8067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едлагается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 1 января 2011 г. создать казен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учреждения, изменив тип федеральных бюджетных учреждений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посредственно определенных в Законе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том числ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826920" y="2421000"/>
            <a:ext cx="0" cy="38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826920" y="292428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1042920" y="2492280"/>
            <a:ext cx="4969080" cy="865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управления объединений, управления соединений и воинские части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Вооруженных Сил Российской Федерации, военные комиссариаты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органы управления внутренними войсками, органы управления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войсками гражданской обороны, соединения и воинские части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внутренних войск, а также других войск и воинских формирований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1042920" y="3429000"/>
            <a:ext cx="4969080" cy="79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учреждения, исполняющие наказания, следственные изоляторы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уголовно-исполнительной системы, учреждения, специально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созданные для обеспечения деятельности уголовно-исполнительной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системы, выполняющие специальные функции и функции управления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1042920" y="4365720"/>
            <a:ext cx="475308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специализированные учреждения для несовершеннолетних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нуждающихся в социальной реабилитац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826920" y="350028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0"/>
          <p:cNvSpPr/>
          <p:nvPr/>
        </p:nvSpPr>
        <p:spPr>
          <a:xfrm>
            <a:off x="826920" y="450864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5940360" y="3429000"/>
            <a:ext cx="3203640" cy="244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 сути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татус казенных учрежде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будет идентичен существующему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крепленному в действующе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конодательстве Российской Федераци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авовому статусу бюджетног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чреждения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 дополнительны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граничение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в виде зачис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сех полученных учреждением средст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т приносящей доходы деятельнос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соответствующий бюдже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36"/>
          <p:cNvSpPr/>
          <p:nvPr/>
        </p:nvSpPr>
        <p:spPr>
          <a:xfrm>
            <a:off x="6659640" y="2421000"/>
            <a:ext cx="431640" cy="1008000"/>
          </a:xfrm>
          <a:prstGeom prst="downArrow">
            <a:avLst>
              <a:gd name="adj1" fmla="val 50000"/>
              <a:gd name="adj2" fmla="val 5838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1116000" y="6021360"/>
            <a:ext cx="460836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сихиатрические больницы (стационары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пециализированного тип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 интенсивным наблюдение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лепрозории и противочумные учрежд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24"/>
          <p:cNvSpPr/>
          <p:nvPr/>
        </p:nvSpPr>
        <p:spPr>
          <a:xfrm>
            <a:off x="826920" y="537372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1042920" y="5013360"/>
            <a:ext cx="4681440" cy="936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чреждения МВД, ГУСПа, ФМС, ФТС, ФСБ, СВР, ФСО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ециальные, воинские, территориальные, объектовые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дразделения федеральной противопожарной службы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ЧС,  аварийно-спасательные формирования федеральны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рганов исполнительной власти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4"/>
          <p:cNvSpPr/>
          <p:nvPr/>
        </p:nvSpPr>
        <p:spPr>
          <a:xfrm>
            <a:off x="826920" y="630864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6516720" y="6165720"/>
            <a:ext cx="1440000" cy="358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т. 31 83-Ф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Минимизация организационных мероприятий при создании казенных учреждений в силу закон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Oval 4"/>
          <p:cNvSpPr/>
          <p:nvPr/>
        </p:nvSpPr>
        <p:spPr>
          <a:xfrm>
            <a:off x="8317080" y="6453360"/>
            <a:ext cx="718920" cy="28872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1928880" y="1643040"/>
            <a:ext cx="5357880" cy="646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и создании казенных учре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силу закон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2862360" y="2506680"/>
            <a:ext cx="4209840" cy="779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 производится переназначени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уководителя и иных работников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2857680" y="3429000"/>
            <a:ext cx="4214520" cy="928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мущество не перезакрепляетс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то ест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знается закрепленным на прав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ативного управл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 принятия дополнительного решени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2857680" y="4500720"/>
            <a:ext cx="4214520" cy="928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ицензии, свидетельства об аккредитаци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ные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зрешительные документ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выдан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чреждению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должают действоват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2857680" y="5572080"/>
            <a:ext cx="42145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 производится перерегистрация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ольк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носятся изменения в уста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39"/>
          <p:cNvSpPr/>
          <p:nvPr/>
        </p:nvSpPr>
        <p:spPr>
          <a:xfrm>
            <a:off x="2571840" y="292896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40"/>
          <p:cNvSpPr/>
          <p:nvPr/>
        </p:nvSpPr>
        <p:spPr>
          <a:xfrm>
            <a:off x="2571840" y="392904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41"/>
          <p:cNvSpPr/>
          <p:nvPr/>
        </p:nvSpPr>
        <p:spPr>
          <a:xfrm>
            <a:off x="2571840" y="500076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42"/>
          <p:cNvSpPr/>
          <p:nvPr/>
        </p:nvSpPr>
        <p:spPr>
          <a:xfrm>
            <a:off x="2571840" y="585792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Прямая соединительная линия 34"/>
          <p:cNvSpPr/>
          <p:nvPr/>
        </p:nvSpPr>
        <p:spPr>
          <a:xfrm flipH="1">
            <a:off x="2569680" y="2286000"/>
            <a:ext cx="1800" cy="35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6659640" y="6381720"/>
            <a:ext cx="1439640" cy="358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т. 31 83-Ф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826920" y="270828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юджетные, автономные и казенные учреждения: сравнительная характеристика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Заголовок 1"/>
          <p:cNvSpPr/>
          <p:nvPr/>
        </p:nvSpPr>
        <p:spPr>
          <a:xfrm>
            <a:off x="179280" y="549360"/>
            <a:ext cx="8656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ания разрабо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6284" t="0" r="8315" b="0"/>
          <a:stretch/>
        </p:blipFill>
        <p:spPr>
          <a:xfrm>
            <a:off x="539640" y="1268280"/>
            <a:ext cx="2151000" cy="25923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 rot="10800000">
            <a:off x="2484000" y="1051920"/>
            <a:ext cx="6335640" cy="5616360"/>
          </a:xfrm>
          <a:prstGeom prst="verticalScroll">
            <a:avLst>
              <a:gd name="adj" fmla="val 1251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125360"/>
            <a:ext cx="4608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В Бюджетном послании 25 мая 2009 г. Президентом Российской Федерации Федеральному Собранию была поставлена задача совершенствования правового положения государственных (муниципальных) учреждений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Разработка была также предусмотрен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Концепцией развития гражданского законодательства Российской Федерации, одобренной решением Совета при Президенте РФ по кодификации и совершенствованию гражданского законодательства от 07.10.2009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ланом мероприятий по совершенствованию государственного управления в 2009 - 2010 годах, утвержденным распоряжением Правительства РФ от 03.12.2009 № 1862-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78364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33"/>
                </a:solidFill>
                <a:latin typeface="Times New Roman"/>
              </a:rPr>
              <a:t>Бюджетное учреждение (с расширенным объемом прав), автономное учреждение и казенное учреждение: </a:t>
            </a:r>
            <a:br>
              <a:rPr sz="2200"/>
            </a:br>
            <a:r>
              <a:rPr b="1" i="1" lang="en-US" sz="2200" spc="-1" strike="noStrike">
                <a:solidFill>
                  <a:srgbClr val="330033"/>
                </a:solidFill>
                <a:latin typeface="Times New Roman"/>
              </a:rPr>
              <a:t>предложения по распоряжению имуществом и ответственности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Oval 4"/>
          <p:cNvSpPr/>
          <p:nvPr/>
        </p:nvSpPr>
        <p:spPr>
          <a:xfrm>
            <a:off x="8424720" y="656892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611280" y="1484280"/>
          <a:ext cx="8064360" cy="5000760"/>
        </p:xfrm>
        <a:graphic>
          <a:graphicData uri="http://schemas.openxmlformats.org/drawingml/2006/table">
            <a:tbl>
              <a:tblPr/>
              <a:tblGrid>
                <a:gridCol w="1728720"/>
                <a:gridCol w="2448000"/>
                <a:gridCol w="2232000"/>
                <a:gridCol w="165564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 срав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ое учрежд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расширенным объемом пра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ен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арная ответст-венность государ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ся отмен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ость учреждения по своим обязательств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м имуществом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собо ценного движимого имущества, закрепленного собственник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любого недвижимого имуще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м имуществом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собо ценного движимого имущества, закрепленного собственник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недвижимого имущества, закрепленного собственнико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еделах доведенных ЛБ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оряжение имуще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м имуществом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собо ценного движимого имущества, закрепленного собственник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любого недвижимого имуще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м имуществом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собо ценного движимого имущества, закрепленного собственник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недвижимого имущества, закрепленного собственнико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вправе распоряжаться любым имуще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о на совершение крупных сдел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С предварительного соглас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С предварительного согласия наблюдательного 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у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о ценное движимое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иды могут определят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фильные министерств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еречни определяе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орган, выполняющих функции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иды могут определят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фильные министерств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еречни определяе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орган, выполняющих функции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выделя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Бюджетное учреждение (с расширенным объемом прав), автономное учреждение и казенное учреждение:</a:t>
            </a:r>
            <a:br>
              <a:rPr sz="1800"/>
            </a:br>
            <a:r>
              <a:rPr b="1" i="1" lang="en-US" sz="1600" spc="-1" strike="noStrike">
                <a:solidFill>
                  <a:srgbClr val="330033"/>
                </a:solidFill>
                <a:latin typeface="Times New Roman"/>
              </a:rPr>
              <a:t>органы управления, создание, реорганизация и ликвидация, учреждение иных организаций</a:t>
            </a:r>
            <a:r>
              <a:rPr b="1" lang="en-US" sz="2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90560" y="907920"/>
          <a:ext cx="8353440" cy="5589720"/>
        </p:xfrm>
        <a:graphic>
          <a:graphicData uri="http://schemas.openxmlformats.org/drawingml/2006/table">
            <a:tbl>
              <a:tblPr/>
              <a:tblGrid>
                <a:gridCol w="1224000"/>
                <a:gridCol w="2449440"/>
                <a:gridCol w="2664000"/>
                <a:gridCol w="20160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 сравн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ое учрежде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расширенным объемом пра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ое учрежд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енное учрежд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управл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Руководител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директор, ректор, главный врач и т.д.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кже могут быть совещательные органы и органы самоуправления.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Наблюдательный сов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ководит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органы (ученый совет, художественный совет и т.д.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ководитель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кже могут быть совещательные органы и органы самоуправ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уч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Новы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федеральные БУ создаются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о решению Правительства Р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В подзаконном акте предлагается установить возможность создания БУ путем изменения типа автономных или казенных учреждений, передав данные полномочия от Правительства РФ профильным министерств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Новые федеральные АУ создаются по решению Правительства Р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В подзаконном акте предлагается упростить создание АУ путем изменения типа БУ, передав данные полномочия от Правительства РФ профильным министерств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Новые федеральные КУ создаются по решению Правительства Р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Массовый перевод части БУ в КУ в силу закона с 1 января 2011 г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организация и ликвида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(банкротство запрещено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ся упростить процедуру,  передав полномочия по федеральным БУ от Правительства РФ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профильным министерствам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По решению учредител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лучаях и порядке, установленных Гражданским кодексом Р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тношении федеральных КУ –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по решению профильного министе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о внес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ущества в капитал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хозяйственных общест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ько в случаях, прямо установленных закон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 примеру, Федеральным законом от 2 августа 2009 года № 217-Ф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Oval 4"/>
          <p:cNvSpPr/>
          <p:nvPr/>
        </p:nvSpPr>
        <p:spPr>
          <a:xfrm>
            <a:off x="8424720" y="656892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330033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Бюджетное учреждение (с расширенным объемом прав), автономное учреждение и казенное учреждение: </a:t>
            </a:r>
            <a:r>
              <a:rPr b="1" i="1" lang="en-US" sz="1600" spc="-1" strike="noStrike">
                <a:solidFill>
                  <a:srgbClr val="330033"/>
                </a:solidFill>
                <a:latin typeface="Times New Roman"/>
              </a:rPr>
              <a:t>финансирование, закупки, иные договоры, кредиты</a:t>
            </a:r>
            <a:r>
              <a:rPr b="1" i="1" lang="en-US" sz="2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58920" y="765000"/>
          <a:ext cx="8785080" cy="5905800"/>
        </p:xfrm>
        <a:graphic>
          <a:graphicData uri="http://schemas.openxmlformats.org/drawingml/2006/table">
            <a:tbl>
              <a:tblPr/>
              <a:tblGrid>
                <a:gridCol w="1655640"/>
                <a:gridCol w="2549520"/>
                <a:gridCol w="2403720"/>
                <a:gridCol w="2176200"/>
              </a:tblGrid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 срав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ое учрежд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расширенным объемом пра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ен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ое обеспеч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виде субсидий в соответствии с заданием учредителя, бюджетных инвестиций и субсидий на иные цел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Доходы поступают в самостоятельное распоряж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виде субсидий в соответствии с заданием учредителя, бюджетные инвестици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Доходы поступают в самостоятельное распоряжени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основе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бюджетной сме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Доходы от приносящей доход деятельности зачисляются в бюджет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ы о планах деятельности, государственное (муниципальное)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ФХД (финансово-хозяйственной деятельности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ое (муниципальное)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ФХД (финансово-хозяйственной деятельности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ое (муниципальное)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отдельных учреждений - государственное (муниципальное)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рытие 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ах Казначейства  (финансовых органах) за исключением случаев, установленны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Вправе открывать счета в банках и в соответствии с соглашением в Казначействе (финансовом орган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ах Казначейства  (финансовых органах) за исключением случаев, установленны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остранение действия  94-Ф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остраняется в полном объ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Не распространяетс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остраняется в полном объ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контрактов и иных гражданско-правовых догово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ает от своего имен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за исключением случаев установленных НПА, когда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 приравнивается к получателю бюджетных средств и заключает госконтракт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ает от своего им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ает от имени публично-правов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лечение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Могут (с ограничением тна крупные сделк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Могу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огу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Oval 4"/>
          <p:cNvSpPr/>
          <p:nvPr/>
        </p:nvSpPr>
        <p:spPr>
          <a:xfrm>
            <a:off x="838980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33"/>
                </a:solidFill>
                <a:latin typeface="Times New Roman"/>
              </a:rPr>
              <a:t>Бюджетное, автономное и казенное учреждение: </a:t>
            </a:r>
            <a:br>
              <a:rPr sz="2200"/>
            </a:br>
            <a:r>
              <a:rPr b="1" lang="en-US" sz="2200" spc="-1" strike="noStrike">
                <a:solidFill>
                  <a:srgbClr val="330033"/>
                </a:solidFill>
                <a:latin typeface="Times New Roman"/>
              </a:rPr>
              <a:t>у</a:t>
            </a:r>
            <a:r>
              <a:rPr b="1" i="1" lang="en-US" sz="2200" spc="-1" strike="noStrike">
                <a:solidFill>
                  <a:srgbClr val="330033"/>
                </a:solidFill>
                <a:latin typeface="Times New Roman"/>
              </a:rPr>
              <a:t>чет, контроль, отчетность, открытость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324000" y="765000"/>
          <a:ext cx="8496000" cy="5477040"/>
        </p:xfrm>
        <a:graphic>
          <a:graphicData uri="http://schemas.openxmlformats.org/drawingml/2006/table">
            <a:tbl>
              <a:tblPr/>
              <a:tblGrid>
                <a:gridCol w="1109520"/>
                <a:gridCol w="3027240"/>
                <a:gridCol w="2436840"/>
                <a:gridCol w="19224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 срав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ое учрежд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расширенным объемом пра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ен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хгалтерский учет по упрощенному бюджетному плану 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хгалтерский уч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юджетный уч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ый контроль и контроль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 основном – последующ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онтроль выполнения госзад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редварительн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санкционирование по  целевым субсидиям и бюджетным .инвестиц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оследующ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контроль выполнения госзад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редварительный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всем расходам (проверка Казначейством наличия денежного обязательства), текущий и последующий 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галтерская отчетнос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ческая отчетнос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 о результатах деятельности и использования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галтерская отчетнос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ческая отчетнос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 о результатах деятельности и использования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юджетная отчетност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тистическая отчетнос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 о результатах деятельности и использования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рыт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дения об учреждении и его деятельности, публикуются в открытом доступе в сети Интернет на общероссийском сайте, который будет создан Федеральным казначейством и запущен с 1 января 2012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т. 32 Закона 7-Ф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3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330033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250920" y="30240"/>
            <a:ext cx="87040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иложение № 6</a:t>
            </a: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Таблица сравнительного анализа налоговой нагрузки на бюджетные учреждения (с учетом нового правового статуса), автономные учреждения и казенные учреждения</a:t>
            </a:r>
            <a:r>
              <a:rPr b="0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4"/>
          <p:cNvSpPr/>
          <p:nvPr/>
        </p:nvSpPr>
        <p:spPr>
          <a:xfrm>
            <a:off x="8424720" y="656892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ahoma"/>
              </a:rPr>
              <a:t>1</a:t>
            </a:r>
            <a:r>
              <a:rPr b="1" lang="ru-RU" sz="1600" spc="-1" strike="noStrike">
                <a:solidFill>
                  <a:srgbClr val="330033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93840" y="1168560"/>
          <a:ext cx="8750160" cy="5689440"/>
        </p:xfrm>
        <a:graphic>
          <a:graphicData uri="http://schemas.openxmlformats.org/drawingml/2006/table">
            <a:tbl>
              <a:tblPr/>
              <a:tblGrid>
                <a:gridCol w="1441440"/>
                <a:gridCol w="1908000"/>
                <a:gridCol w="3059280"/>
                <a:gridCol w="2341440"/>
              </a:tblGrid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ое учрежд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ое учрежде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расширенным объемом пра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енное учрежд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85880"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Д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плат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учетом льгот, установленных ст. 149 НК РФ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учетом льгот, установленных ст. 149 НК РФ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учетом льгот, установленных ст. 149 НК РФ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Д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аре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уплачиваю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латит арендатор – налоговый аген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прибы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убсидия в налогооблагаемую базу не включаетс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убсидия в налогооблагаемую базу не включаетс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уплачивают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логооблагаемая база отсутствуе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поошлина за наименование «Росс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и регистрации учредительных докумен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и регистрации учредительных докумен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ощенная система налогообло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Применя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вправе примен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вправе примен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имущество, 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расходы на уплату налога на недвижимое имущество и особо ценное движимое имущество включены в сумму субсид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расходы на уплату налога на недвижимое имущество и особо ценное движимое имущество включены в сумму субсид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за счет доведенных им на эти цели ЛБ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826920" y="270828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(2010-2012 гг.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ходный период (до 1.07.2012 гг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250920" y="0"/>
            <a:ext cx="889308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в 2010 году (федеральный уровень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179280" y="765000"/>
            <a:ext cx="896472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ероприяти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ро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верждение Правительством РФ перечней казен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ждений, которые создаются путем измен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ипа бюджетных учреждений (БУ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 1 октября 2010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верждение перечней недвижимого имуществ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репленного за подведомственными учреждения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дителем, или приобретенным за счет средств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деленных учредителем на эти цел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о 1 января 2011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ятие ФОИВ решений об отнесен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вижимого имущества федеральных БУ к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бо ценному движимому имуществу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 1 марта 2011 год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ставление федеральными орган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сударственной власти в Федеральное казначей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вержденных перечней бюджетных и казенных учреждений,          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 1 ноября 2010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ение изменений в уставы федераль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юджетных и казенных учреждени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 1 июня 2011 г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330033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11280" y="333360"/>
            <a:ext cx="7905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(мероприятия субъектов РФ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муниципальных образовани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0" y="1397160"/>
          <a:ext cx="8893080" cy="4951080"/>
        </p:xfrm>
        <a:graphic>
          <a:graphicData uri="http://schemas.openxmlformats.org/drawingml/2006/table">
            <a:tbl>
              <a:tblPr/>
              <a:tblGrid>
                <a:gridCol w="755640"/>
                <a:gridCol w="5173560"/>
                <a:gridCol w="29638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 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закон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убъектов Российской Федерации, нормативных правовых актов местного самоуправления, устанавливающих особенности переходного периода в субъекте Федерации (муниципалитете)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у, начиная с которой осуществляется зачисление в бюджет субъекта Российской Федерации (местный бюджет) доходов, полученных казенными учреждениями субъекта Российской Федерации (муниципальными казенными учреждениями) от платных услуг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 финансового обеспечения бюджетных учреждений (бюджетная смета или субсидия на выполнение государственного задания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и направления  использования учреждениями доходов от платных услуг и иной приносящей доход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0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330033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11280" y="333360"/>
            <a:ext cx="7905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(мероприятия субъектов РФ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муниципальных образований)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0" y="1308240"/>
          <a:ext cx="9036000" cy="5549760"/>
        </p:xfrm>
        <a:graphic>
          <a:graphicData uri="http://schemas.openxmlformats.org/drawingml/2006/table">
            <a:tbl>
              <a:tblPr/>
              <a:tblGrid>
                <a:gridCol w="755640"/>
                <a:gridCol w="5173560"/>
                <a:gridCol w="31068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 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ие нормативных правовых актов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илу которых создаются казенные учрежден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утем изменения типа бюджетных учреждений, действовавших на дату принятия указанных нормативных правовых актов, с указанием в них перечня казен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0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и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чней недвижимого имуществ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дведомственных учреждений, закрепленного за ними учредителем или приобретенным за счет средств, выделенных учредителем на эти цели, в целях расчета субсид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января 201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ие решений об отнесении движимого имущества БУ к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о ценному движимому имущест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марта 2011 г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сени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й в устав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дведомств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 и казен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1 год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0" y="1773360"/>
          <a:ext cx="9144000" cy="911160"/>
        </p:xfrm>
        <a:graphic>
          <a:graphicData uri="http://schemas.openxmlformats.org/drawingml/2006/table">
            <a:tbl>
              <a:tblPr/>
              <a:tblGrid>
                <a:gridCol w="545040"/>
                <a:gridCol w="1055520"/>
                <a:gridCol w="4426200"/>
                <a:gridCol w="3117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базового зак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нормативного правового акта требующего раз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, выпускающий а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0" y="2708280"/>
          <a:ext cx="9144000" cy="2922480"/>
        </p:xfrm>
        <a:graphic>
          <a:graphicData uri="http://schemas.openxmlformats.org/drawingml/2006/table">
            <a:tbl>
              <a:tblPr/>
              <a:tblGrid>
                <a:gridCol w="539640"/>
                <a:gridCol w="1068480"/>
                <a:gridCol w="4403880"/>
                <a:gridCol w="3132000"/>
              </a:tblGrid>
              <a:tr h="192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 «б» п. 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 ст. 1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4 ст. 14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.1 ст. 16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 ст. 17.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ст. 18 и ст. 1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5 ФЗ № 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5 ст. 31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оздания, реорганизации, изменения типа и ликвидации государственных учреждений субъектов Российской Федерации (муниципальных учреждений), а также утверждения уставов государственных учреждений субъекта Российской Федерации (муниципальных учреждений) и внесения в них изме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4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пределения платы за оказание бюджетным учреждением субъектов  Российской Федерации (муниципальным учреждением) услуг (выполнение работ), относящихся к основным видам деятельности бюджетного учреждения, для граждан и юрид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Заголовок 1"/>
          <p:cNvSpPr/>
          <p:nvPr/>
        </p:nvSpPr>
        <p:spPr>
          <a:xfrm>
            <a:off x="2700360" y="115920"/>
            <a:ext cx="613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дседатель Правительств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 Федеральном закон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620640"/>
            <a:ext cx="5292720" cy="2519280"/>
          </a:xfrm>
          <a:prstGeom prst="verticalScroll">
            <a:avLst>
              <a:gd name="adj" fmla="val 523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40360" y="907920"/>
            <a:ext cx="4679640" cy="19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«…Механизмы бюджетного финансирования должны стать более гибкими, а объем прав и степень самостоятельности конкретных учреждений должен зависеть напрямую от сферы их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17840" indent="5378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Вступительное слово Председателя Правительства Российской Федерации В.В. Путина на совещании в Правительстве Российской Федерации о реструктуризации состава федеральных бюджетных учреждений и оптимизации расходов на их содержание (20 июля 2009 г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-720" y="1773360"/>
            <a:ext cx="5940360" cy="2520720"/>
          </a:xfrm>
          <a:prstGeom prst="verticalScroll">
            <a:avLst>
              <a:gd name="adj" fmla="val 9064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9800" y="2060640"/>
            <a:ext cx="48974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«…Я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прошу руководителей регионов, не дожидаясь вступления закона в силу, начинать подготовительную работу по его реализации и отнестись к этой работе максимально ответственно.»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895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Выступление Председателя Правительства Российской Федерации В.В. Путина на заседании Президиума Совета при Президенте Российской Федерации по реализации приоритетных национальных проектов и демографической политике  (26 февраля 2010 г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573360"/>
            <a:ext cx="8748720" cy="3168720"/>
          </a:xfrm>
          <a:prstGeom prst="verticalScroll">
            <a:avLst>
              <a:gd name="adj" fmla="val 495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716280"/>
            <a:ext cx="835344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«Одним из ключевых звеньев предстоящей реформы является совершенствование правового статуса бюджетных учрежд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Цели – повысить качество и эффективность услуг, предоставляемых за счет бюджетных средств; снять устаревшие и избыточные ограничения в работе социальных учреждений страны; переориентировать их на запросы и интересы граждан России. Для бюджетных учреждений будут установлены государственные задания на оказание услуг с четким описанием их объема, требований качества, условий их предост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Конечно, такие услуги будут в полном объеме профинансированы за счет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Закон достаточно хорошо защищает имущество бюджетных учреждений: на него нельзя обратить изыск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ринятие закона – это только полдела. Фактические результаты этой важнейшей, давно назревшей реформы будут зависеть от работ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Введение в действие нового механизма должно стать одним из основных критериев оценки должностных лиц всех уровней, непосредственных руководителей бюджетных учреждений, статьи индикатором их профессионализма и самодостаточности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906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Выступление Председателя Правительства Российской Федерации В.В. Путина на совместном заседании коллегий Минфина и Минэкономразвития России (14 мая 2010 г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rcRect l="0" t="3427" r="4224" b="0"/>
          <a:stretch/>
        </p:blipFill>
        <p:spPr>
          <a:xfrm>
            <a:off x="0" y="0"/>
            <a:ext cx="2700360" cy="20415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440" y="1833480"/>
          <a:ext cx="9142560" cy="3900240"/>
        </p:xfrm>
        <a:graphic>
          <a:graphicData uri="http://schemas.openxmlformats.org/drawingml/2006/table">
            <a:tbl>
              <a:tblPr/>
              <a:tblGrid>
                <a:gridCol w="317520"/>
                <a:gridCol w="1344600"/>
                <a:gridCol w="4540320"/>
                <a:gridCol w="2940120"/>
              </a:tblGrid>
              <a:tr h="14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5 и 6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осуществления бюджетными учреждениями полномочий органа государственной власти субъекта Российской Федерации, органа местного самоуправления по исполнению публичных обязательств перед физическим лицом, подлежащих исполнению в денежной форме и определение порядка финансового обеспечения их осущест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7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условий и порядка формирования государственного задания и порядок финансового обеспечения выполнения этого задания бюджетными учреждениями субъектов Российской Федерации (муниципальными бюджетными учреждения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1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 ст. 3 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пределения видов особо ценного движимого имущества, в отношении бюджетных учреждений субъектов Российской Федерации (муниципальных бюджет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440" y="1628640"/>
          <a:ext cx="9142560" cy="3024360"/>
        </p:xfrm>
        <a:graphic>
          <a:graphicData uri="http://schemas.openxmlformats.org/drawingml/2006/table">
            <a:tbl>
              <a:tblPr/>
              <a:tblGrid>
                <a:gridCol w="393840"/>
                <a:gridCol w="1268280"/>
                <a:gridCol w="4540320"/>
                <a:gridCol w="29401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2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еречня особо ценного движимого имущества бюджетного учреждения субъектов Российской Федерации (муниципального бюджетного учрежд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.3 ст. 32 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составления и утверждения плана финансово-хозяйственной деятельности учреждений субъектов Российской Федерации (муниципаль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.3 ст. 32 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составления  и утверждения Отчета о результатах деятельности муниципального учреждения и об использовании закрепленного за ним муниципального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0" y="4653000"/>
          <a:ext cx="9144000" cy="2006640"/>
        </p:xfrm>
        <a:graphic>
          <a:graphicData uri="http://schemas.openxmlformats.org/drawingml/2006/table">
            <a:tbl>
              <a:tblPr/>
              <a:tblGrid>
                <a:gridCol w="395280"/>
                <a:gridCol w="1265400"/>
                <a:gridCol w="4539960"/>
                <a:gridCol w="29433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.1 ст. 3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существления контроля за деятельностью бюджетных и казенных учреждений субъекта Российской Федерации (муниципальных бюджетных и казен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ст. 79 БК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предоставления бюджетных инвестиций автономным  и бюджетным учреждениям субъектов Российской Федерации (муниципальным автономным и бюджетным учрежден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0" y="1628640"/>
          <a:ext cx="9144000" cy="4743720"/>
        </p:xfrm>
        <a:graphic>
          <a:graphicData uri="http://schemas.openxmlformats.org/drawingml/2006/table">
            <a:tbl>
              <a:tblPr/>
              <a:tblGrid>
                <a:gridCol w="395280"/>
                <a:gridCol w="1266840"/>
                <a:gridCol w="4538520"/>
                <a:gridCol w="2943360"/>
              </a:tblGrid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 ст. 221 БК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оставления, утверждения и ведения бюджетных смет казенных учреждений субъектов Российской Федерации (муниципальных казен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. 3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3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ткрытия и ведения лицевых счетов автономным учреждениям в финансовом органе субъекта Российской Федерации (муниципального образования) и проведения кассовых выплат за счет средств автономных учреждений, лицевые счета которым открыты в финансовом органе субъекта Российской Федерации (муниципальном образован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, 6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ткрытия и ведения лицевых счетов бюджетным учреждениям субъектов Российской Федерации (муниципальных бюджетных учреждений) в финансовом органе субъекта Российской Федерации (муниципального образования) и порядка проведения кассовых выплат за счет средств бюджетных учреждений субъектов Российской Федерации (муниципальных бюджет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. 10 п. 20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учета и хранения исполнительных документов, предусматривающих взыскание на средства бюджетных учреждений субъектов Российской Федерации (муниципальных бюджетных учреждений), и иных документов, связанных с их исполнени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0" y="1700280"/>
          <a:ext cx="9144000" cy="4378320"/>
        </p:xfrm>
        <a:graphic>
          <a:graphicData uri="http://schemas.openxmlformats.org/drawingml/2006/table">
            <a:tbl>
              <a:tblPr/>
              <a:tblGrid>
                <a:gridCol w="468360"/>
                <a:gridCol w="1193760"/>
                <a:gridCol w="4538520"/>
                <a:gridCol w="294336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6 ст.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анкционирования расходов бюджетных учреждений субъектов Российской Федерации (муниципальных бюджетных учреждений), источником финансового обеспечения которых являются субсидии, полученные в соответствии с абзацем вторым части 1 статьи 78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пунктом 5 статьи 79 Бюджетного кодекса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18, 19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зыскания в бюджет субъекта Российской Федерации (местный бюджет) неиспользованных в текущем финансовом году остатков субсидий, предоставленных бюджетным учреждениям субъекта Российской Федерации (муниципальным бюджетным учрежден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3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перечисления в бюджет субъекта Российской Федерации (местный бюджет) остатков средств с соответствующих счетов, на которых отражаются операции со средствами бюджетных учреждений субъекта Российской Федерации (муниципальных бюджетных учреждений), а также их возврата на указанные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7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редельно допустимых значений просроченной кредиторской задолженности бюджетного учреждения, превышение которых влечет расторжение трудового договора по инициативе работодателя в соответствии с Трудовым кодексом Российской Федерации с руководителем бюджетного уч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Oval 4"/>
          <p:cNvSpPr/>
          <p:nvPr/>
        </p:nvSpPr>
        <p:spPr>
          <a:xfrm>
            <a:off x="8424720" y="656892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0" y="1628640"/>
          <a:ext cx="9144000" cy="4837320"/>
        </p:xfrm>
        <a:graphic>
          <a:graphicData uri="http://schemas.openxmlformats.org/drawingml/2006/table">
            <a:tbl>
              <a:tblPr/>
              <a:tblGrid>
                <a:gridCol w="395280"/>
                <a:gridCol w="1266840"/>
                <a:gridCol w="4538520"/>
                <a:gridCol w="2943360"/>
              </a:tblGrid>
              <a:tr h="483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6 ст. 33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формы финансового обеспечения деятельности бюджетных учреждений субъекта Российской Федерации (муниципальных бюджетных учреждений) в переходный период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даты, начиная с которой осуществляется зачисление в бюджет субъекта Российской Федерации (местный бюджет) доходов, полученных казенными учреждениями субъекта Российской Федерации (муниципальными казенными учреждениями) от платных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и направления использования бюджетными учреждениями субъектов Российской Федерации, являющимися получателями бюджетных средств, и казенными учреждениями субъектов Российской Федерации (муниципальными бюджетными учреждениями, являющимися получателями бюджетных средств, и муниципальными казенными учреждениями) доходов от сдачи в аренду имущества, находящегося в государственной собственности субъекта Российской Федерации (муниципальной собственности) и переданного в оперативное управление указанным учрежде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и направления использования бюджетными учреждениями субъектов Российской Федерации, являющимися получателями бюджетных средств, и казенными учреждениями субъектов Российской Федерации (муниципальными бюджетными учреждениями, являющимися получателями бюджетных средств, и муниципальными казенными учреждениями) доходов от оказания платных услуг и иной приносящей доход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одательные (представительные) органы государственной власти субъекта Российской Федерации и представительные органы местного само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33"/>
                </a:solidFill>
                <a:latin typeface="Tahom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826920" y="270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 algn="ctr">
              <a:buClr>
                <a:srgbClr val="33003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Общая характеристика бюджетной сети и подходов к ее реформиров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в целях повышения эффективности качества государственных (муниципальных)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Основные причины низкой эффективности оказания государственных (муниципальных) услуг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8244000" y="6453360"/>
            <a:ext cx="718920" cy="28872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2195640" y="1844640"/>
            <a:ext cx="4967280" cy="1800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за счет средств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уществля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юджетных учреждени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не зависим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т объема и качества оказанных ими услу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611280" y="3786120"/>
            <a:ext cx="4176720" cy="25005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юджетных учрежде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тсутствуют стимулы 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птимизации и повышени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ффективности - э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 вызван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метны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финансировани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4859280" y="3786120"/>
            <a:ext cx="4103640" cy="25005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ольшинство бюджет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реждений характеризуютс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ысок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ью закрытости управл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ногие учреждени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фактиче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приватизированы» 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ысшим менеджментом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8680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Факторы, препятствующие ускорению процесса создания и развития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автономных учреждени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838980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84360" y="1628640"/>
            <a:ext cx="3887640" cy="1800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ая процедура созда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автономных учрежде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по каж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ждени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ешение Правительства Р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позволяет осуществить массов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ход к автономным учреждения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788000" y="1628640"/>
            <a:ext cx="3814560" cy="1800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сутствие гарантий того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при переходе в автономно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ждение финансовое полож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ждения не ухудши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755640" y="4581360"/>
            <a:ext cx="3816360" cy="216072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т явных стимулов к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ереходу в автономные учрежд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учетом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уществующих на практик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широких возможностей для бюджет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учрежде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716360" y="4581360"/>
            <a:ext cx="4103640" cy="208764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рмативные огранич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бюджетных учрежде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ивелируются слабым контроле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а их соблюдени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1258920" y="3733920"/>
            <a:ext cx="7058160" cy="558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федеральном уровне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 2006 год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оздано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лишь двадцать д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втономных учрежд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2700360" y="3429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2700360" y="4292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6588000" y="3429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6588000" y="4292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Цель и задачи повышения качества государственных (муниципальных) услуг путем реформирования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 бюджетной сет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Oval 3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84360" y="2637000"/>
            <a:ext cx="4248000" cy="122364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 1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условий и стимулов для бо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ффективного исполь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юджетным учреждение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ств, предоставленных из бюдж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003640" y="2637000"/>
            <a:ext cx="3673800" cy="122364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 2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здание условий дл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едеральных органов в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тимизации сети учре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611280" y="4149720"/>
            <a:ext cx="4248000" cy="2592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еханизм достижения: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Расширение объема прав</a:t>
            </a:r>
            <a:r>
              <a:rPr b="0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част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ных учреждений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(по аналогии с АУ)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а) переход на субсидии по госзаданию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б) устранение субсидиарной ответственности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) полученные доходы поступают в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распоряжение бюджетного учреждения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Перевод остальных бюджетных учреждений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в</a:t>
            </a:r>
            <a:r>
              <a:rPr b="0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казенные учреждения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с минимальным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авами по распоряжению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доходами и имуществом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4859280" y="4149720"/>
            <a:ext cx="4105440" cy="2592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еханизм достижения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) расширение компетенци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ФОИВ по реорганизации, изменении типа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и ликвидации подведомственных учреждений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) установление гарантий сохранения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объема бюджетных ассигнований пр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изменении типа учрежден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714240" y="1628640"/>
            <a:ext cx="8178840" cy="8067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Цел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вышение эффективнос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предоставления государственных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униципальных услу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2700360" y="386064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6659640" y="386064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2700360" y="2421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3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9400" y="115920"/>
            <a:ext cx="8994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Этапы реформы и перспекти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83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19700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Настоящее врем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83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119700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Федеральный закон № 83-Ф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6000" y="83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700280"/>
            <a:ext cx="1871640" cy="3457440"/>
          </a:xfrm>
          <a:prstGeom prst="rect">
            <a:avLst/>
          </a:prstGeom>
          <a:solidFill>
            <a:srgbClr val="d2cce6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2060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256536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1053720" y="327528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м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4508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27280" y="1268280"/>
            <a:ext cx="0" cy="4032360"/>
          </a:xfrm>
          <a:prstGeom prst="line">
            <a:avLst/>
          </a:prstGeom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43280" y="1700280"/>
            <a:ext cx="1224000" cy="3457440"/>
          </a:xfrm>
          <a:prstGeom prst="rect">
            <a:avLst/>
          </a:prstGeom>
          <a:solidFill>
            <a:srgbClr val="d2cce6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43280" y="2060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16360" y="4508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2360" y="256536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3214080" y="3202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м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24360" y="1341360"/>
            <a:ext cx="0" cy="3959280"/>
          </a:xfrm>
          <a:prstGeom prst="line">
            <a:avLst/>
          </a:prstGeom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1700280"/>
            <a:ext cx="1081080" cy="3457440"/>
          </a:xfrm>
          <a:prstGeom prst="rect">
            <a:avLst/>
          </a:prstGeom>
          <a:solidFill>
            <a:srgbClr val="d2cce6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43280" y="2060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060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4508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3284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92360" y="256536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72360" y="2492280"/>
            <a:ext cx="0" cy="194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3500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0000" y="3429000"/>
            <a:ext cx="865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56720" y="2205000"/>
            <a:ext cx="1079280" cy="2664000"/>
          </a:xfrm>
          <a:prstGeom prst="rect">
            <a:avLst/>
          </a:prstGeom>
          <a:solidFill>
            <a:srgbClr val="ccffcc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3645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убсид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48360" y="364500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Оплата услу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4508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3214080" y="3202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м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6094080" y="3202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м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56720" y="285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56720" y="414972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иные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Ю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56720" y="2205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ы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23240" y="33894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87880" y="414324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72040" y="388152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5445000"/>
            <a:ext cx="7345440" cy="1297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6308640"/>
            <a:ext cx="647640" cy="360360"/>
          </a:xfrm>
          <a:prstGeom prst="rect">
            <a:avLst/>
          </a:prstGeom>
          <a:solidFill>
            <a:srgbClr val="ccffcc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5805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П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5877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92360" y="6165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64533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ные Ю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00000" y="5805360"/>
            <a:ext cx="25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ублично-правовое образ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6308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56000" y="587700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юджетное учрежд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616572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азенное учрежд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6453360"/>
            <a:ext cx="31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ные юридические лиц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5950080"/>
            <a:ext cx="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11640" y="602136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11640" y="630864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11640" y="659772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544500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бозначения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5805360"/>
            <a:ext cx="647640" cy="432000"/>
          </a:xfrm>
          <a:prstGeom prst="rect">
            <a:avLst/>
          </a:prstGeom>
          <a:solidFill>
            <a:srgbClr val="d2cce6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582120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119700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Возможная перспекти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826920" y="270828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ршенствование статуса бюджетных учреждений: основные изменения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и эта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8:20:31Z</dcterms:created>
  <dc:creator>Alexey.Starovoytov</dc:creator>
  <dc:description/>
  <dc:language>en-US</dc:language>
  <cp:lastModifiedBy>Валева</cp:lastModifiedBy>
  <cp:lastPrinted>2009-05-16T07:21:51Z</cp:lastPrinted>
  <dcterms:modified xsi:type="dcterms:W3CDTF">2010-05-19T14:55:21Z</dcterms:modified>
  <cp:revision>693</cp:revision>
  <dc:subject/>
  <dc:title>Слайд 1</dc:title>
</cp:coreProperties>
</file>